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5CF-E2BB-4063-8567-204F2ACC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6F9-AB02-4E36-A721-4BC69473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BEF-166F-40CA-A9A3-7B4D55BE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7BF-FBDA-4734-A7FF-4FFC36A2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DFA-A753-4DDE-ABD8-71239E4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62B-F630-4FB7-9162-CFA3BB7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8B2-5682-4AB9-BDA7-BC1B8F9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D2F-8963-40F9-8062-F860BAA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B0F-EAB5-453A-A256-50F9987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943-E376-47DA-8BCC-CD14CC37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B84-CFBE-4844-B536-5E1B169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E7D-1F46-49F5-B1FC-A7A4540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71E-2C3C-4589-A163-AA1A4D023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72;&#1074;&#1080;&#1090;&#1077;&#1083;&#1100;&#1089;&#1090;&#1074;&#1072;%20&#1094;&#1072;&#1088;&#1103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shablony-dlya-prezentaziy-11-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08648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9" descr="s623309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1847880" cy="485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5715000" y="3000240"/>
            <a:ext cx="2048040" cy="486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1000080" y="4214880"/>
            <a:ext cx="1647720" cy="485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5643720" y="4214880"/>
            <a:ext cx="1847520" cy="485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8"/>
          <a:stretch/>
        </p:blipFill>
        <p:spPr>
          <a:xfrm>
            <a:off x="3286080" y="2928960"/>
            <a:ext cx="46692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9"/>
          <a:stretch/>
        </p:blipFill>
        <p:spPr>
          <a:xfrm>
            <a:off x="8072280" y="300024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10"/>
          <a:stretch/>
        </p:blipFill>
        <p:spPr>
          <a:xfrm>
            <a:off x="3214800" y="421488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"/>
          <p:cNvPicPr/>
          <p:nvPr/>
        </p:nvPicPr>
        <p:blipFill>
          <a:blip r:embed="rId11"/>
          <a:stretch/>
        </p:blipFill>
        <p:spPr>
          <a:xfrm>
            <a:off x="8072280" y="421488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3143160" y="2786040"/>
            <a:ext cx="7146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3143160" y="4071960"/>
            <a:ext cx="7146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8001000" y="278604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8001000" y="407196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4:58Z</dcterms:created>
  <dc:creator>Admin</dc:creator>
  <dc:description/>
  <dc:language>en-US</dc:language>
  <cp:lastModifiedBy>Admin</cp:lastModifiedBy>
  <dcterms:modified xsi:type="dcterms:W3CDTF">2004-01-01T00:15:46Z</dcterms:modified>
  <cp:revision>2</cp:revision>
  <dc:subject/>
  <dc:title>Слайд 1</dc:title>
</cp:coreProperties>
</file>